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  <p:custShowLst>
    <p:custShow name="Nowy niestandardowy pokaz slajd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95E-5BD5-4922-8A10-97C76D27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EDE-4464-4BBD-905A-6867565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A3B-016F-4A70-B81F-A9B52B5A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E6E-E147-4126-A7C9-D1059220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2C3-A071-4AAA-9AFF-D5471EF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611-B3C3-4629-B921-6B70DA44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101-D9E1-47F3-A47A-92D45CEB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8D3-FA7D-425C-885D-219FE47F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D25-5D51-46B7-9C12-C9F771B0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87B-FE81-4925-AAB7-F676D42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5F5-9908-4D1E-9196-171E511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B76-992A-46C7-8B21-7147490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BD184-41A3-43C5-81EE-5716FBA32AFE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207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łow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1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wyd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kwiel nadmo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lik krzykli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7964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Świętokrzy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łobor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, 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957400" y="4019400"/>
            <a:ext cx="3702240" cy="354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atr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9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ejski układ rośli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6072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>kamil tomaszewski</cp:lastModifiedBy>
  <dcterms:modified xsi:type="dcterms:W3CDTF">2010-05-17T13:03:53Z</dcterms:modified>
  <cp:revision>14</cp:revision>
  <dc:subject/>
  <dc:title/>
</cp:coreProperties>
</file>